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C6C7-D6A2-4555-993E-62C6E31855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F8DA-E726-41D6-AE79-66CD44F3DB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392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ati.h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840" y="1440"/>
            <a:ext cx="1128384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407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MIR 2007-2013 monitoring és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s rendsze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639600"/>
            <a:ext cx="11315880" cy="2232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mréné Bagi Szo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Folyamatszabályozási és IMIR Cso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8680" y="1913040"/>
            <a:ext cx="6120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Title 1"/>
          <p:cNvSpPr/>
          <p:nvPr/>
        </p:nvSpPr>
        <p:spPr>
          <a:xfrm>
            <a:off x="1770120" y="471600"/>
            <a:ext cx="66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dokumentum generálás,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ektronikus benyúj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4680" y="2128680"/>
            <a:ext cx="10305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0480" y="3424320"/>
            <a:ext cx="1584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7400" y="6521400"/>
            <a:ext cx="792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25904" t="50618" r="70050" b="43506"/>
          <a:stretch/>
        </p:blipFill>
        <p:spPr>
          <a:xfrm>
            <a:off x="8537400" y="3279600"/>
            <a:ext cx="71460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25904" t="58277" r="70050" b="35640"/>
          <a:stretch/>
        </p:blipFill>
        <p:spPr>
          <a:xfrm>
            <a:off x="8394840" y="6232680"/>
            <a:ext cx="747720" cy="93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usk_logo_hu"/>
          <p:cNvPicPr/>
          <p:nvPr/>
        </p:nvPicPr>
        <p:blipFill>
          <a:blip r:embed="rId5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425760" y="3568680"/>
            <a:ext cx="2698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625760" y="476280"/>
            <a:ext cx="8280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echnikai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539640" y="1557360"/>
            <a:ext cx="100872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Onlin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ndszer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Interneten keresztül érhető el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1 időben - 1 projektrész – 1 online 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képernyők és az adatbevitel nyelve: ang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Java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platformra kialakított technológia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, Oracl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lapú adatbázis, titkosított kliens-szerver kommunikáció (Certificate: személyes kulcs használ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rendszer által használt programok: Internet Explorer/Mozilla Firefox, MS Office, Adobe Pdf reader,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54120" y="2776680"/>
            <a:ext cx="863136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4800" spc="-1" strike="noStrike">
                <a:solidFill>
                  <a:srgbClr val="006666"/>
                </a:solidFill>
                <a:latin typeface="Calibri"/>
              </a:rPr>
              <a:t>Köszönöm szíves figyelmük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el: 06-1-224-3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ax:06-1-224-3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-mail: imisoffice@vat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9040" y="205560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7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100" spc="-1" strike="noStrike">
                <a:solidFill>
                  <a:srgbClr val="006666"/>
                </a:solidFill>
                <a:latin typeface="Calibri"/>
              </a:rPr>
              <a:t>Vezető partner – projekt partner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Minden magyar projekt partner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(akinek vezető partneri feladata is van, az is, mint projekt partner) a </a:t>
            </a: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PARTNERI JELENTÉSÉT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az IMIR 2007-2013 Front Office felületén készíti el, és nyújtja be – „Front Office projekt partnerek részére”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A vezető partnerek a PROJEKT JELENTÉSÜKET a HU-SK JTS-el egyeztetik annak készítésének és benyújtásának módját; az IMIR 2007-2013 Front Office felületén készítik el, és nyújtják be – „Front Office for Lead partner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1839960"/>
            <a:ext cx="936720" cy="2009880"/>
          </a:xfrm>
          <a:prstGeom prst="cloudCallout">
            <a:avLst>
              <a:gd name="adj1" fmla="val 236777"/>
              <a:gd name="adj2" fmla="val -34754"/>
            </a:avLst>
          </a:prstGeom>
          <a:solidFill>
            <a:srgbClr val="99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1479600"/>
            <a:ext cx="4319640" cy="5041800"/>
          </a:xfrm>
          <a:custGeom>
            <a:avLst/>
            <a:gdLst>
              <a:gd name="textAreaLeft" fmla="*/ 116280 w 4319640"/>
              <a:gd name="textAreaRight" fmla="*/ 4203360 w 4319640"/>
              <a:gd name="textAreaTop" fmla="*/ 116280 h 5041800"/>
              <a:gd name="textAreaBottom" fmla="*/ 4925520 h 5041800"/>
            </a:gdLst>
            <a:ahLst/>
            <a:rect l="textAreaLeft" t="textAreaTop" r="textAreaRight" b="textAreaBottom"/>
            <a:pathLst>
              <a:path w="21600" h="25211">
                <a:moveTo>
                  <a:pt x="1987" y="0"/>
                </a:moveTo>
                <a:arcTo wR="1987" hR="1987" stAng="16200000" swAng="-5400000"/>
                <a:lnTo>
                  <a:pt x="0" y="23224"/>
                </a:lnTo>
                <a:arcTo wR="1987" hR="1987" stAng="10800000" swAng="-5400000"/>
                <a:lnTo>
                  <a:pt x="19613" y="25211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solidFill>
            <a:srgbClr val="ffffff">
              <a:alpha val="46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7760" y="1984320"/>
            <a:ext cx="4176720" cy="1800360"/>
          </a:xfrm>
          <a:prstGeom prst="rect">
            <a:avLst/>
          </a:prstGeom>
          <a:solidFill>
            <a:srgbClr val="6f9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Front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Partneri jelent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készítése 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benyúj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9040" y="4361040"/>
            <a:ext cx="4105440" cy="18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ack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Hiteles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44680" y="1984320"/>
            <a:ext cx="1632960" cy="1849320"/>
            <a:chOff x="544680" y="1984320"/>
            <a:chExt cx="1632960" cy="1849320"/>
          </a:xfrm>
        </p:grpSpPr>
        <p:sp>
          <p:nvSpPr>
            <p:cNvPr id="58" name=""/>
            <p:cNvSpPr/>
            <p:nvPr/>
          </p:nvSpPr>
          <p:spPr>
            <a:xfrm>
              <a:off x="693720" y="1984320"/>
              <a:ext cx="861480" cy="89388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33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4680" y="3008160"/>
              <a:ext cx="161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Projekt 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39720" y="2647800"/>
              <a:ext cx="637920" cy="379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54480" y="4145040"/>
            <a:ext cx="2364480" cy="2199240"/>
            <a:chOff x="8754480" y="4145040"/>
            <a:chExt cx="2364480" cy="2199240"/>
          </a:xfrm>
        </p:grpSpPr>
        <p:sp>
          <p:nvSpPr>
            <p:cNvPr id="62" name=""/>
            <p:cNvSpPr/>
            <p:nvPr/>
          </p:nvSpPr>
          <p:spPr>
            <a:xfrm>
              <a:off x="9545760" y="4145040"/>
              <a:ext cx="776160" cy="87912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9795960" y="4952880"/>
              <a:ext cx="469800" cy="155520"/>
            </a:xfrm>
            <a:prstGeom prst="cube">
              <a:avLst>
                <a:gd name="adj" fmla="val 7938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54480" y="5153040"/>
              <a:ext cx="23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Hitelesítést végz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 </a:t>
              </a: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szervezet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(kontroll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9950400" y="4792680"/>
              <a:ext cx="532080" cy="274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5040" y="4576680"/>
            <a:ext cx="1806840" cy="147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945040" y="2200320"/>
            <a:ext cx="1800360" cy="141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02480" y="3713040"/>
            <a:ext cx="215640" cy="719280"/>
          </a:xfrm>
          <a:prstGeom prst="upDownArrow">
            <a:avLst>
              <a:gd name="adj1" fmla="val 50000"/>
              <a:gd name="adj2" fmla="val 66402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1760" y="2705040"/>
            <a:ext cx="1728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745400" y="5008680"/>
            <a:ext cx="2016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husk_logo_hu"/>
          <p:cNvPicPr/>
          <p:nvPr/>
        </p:nvPicPr>
        <p:blipFill>
          <a:blip r:embed="rId4"/>
          <a:stretch/>
        </p:blipFill>
        <p:spPr>
          <a:xfrm>
            <a:off x="7896240" y="0"/>
            <a:ext cx="341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ek készítésének és benyújtásának módja (partn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elektronikusan: IMIR 2007-2013 Front Office felületén keresztül,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papír alapon: IMIR 2007-2013 Front Office felületén generált riportokk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ellenőrzésének és hitelesítésének módja (kontroll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IMIR 2007-2013 Back Office részé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beérkezési határideje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A papír alapú dokumentumok beérkezése (nem az elektronikus benyújtá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benyújtásának feltéte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i jelentés benyújtásának feltétele az alábbi dokumentumok beküldése a Társfinanszírozási támogatási szerződés kötése folyamá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1. Pályázati formanyomtat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2. Főszerző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3. Partnerségi megállapo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4. Nyilatkozat a szervezet adata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5. Nyilatkozat a hazai partner bankszámlá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6. ÁFA nyilatko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hu-HU" sz="2000" spc="-1" strike="noStrike">
                <a:solidFill>
                  <a:srgbClr val="006666"/>
                </a:solidFill>
                <a:latin typeface="Calibri"/>
              </a:rPr>
              <a:t>(Fenti dokumentumok alapján a kontrollerek létrehozzák a projektrészt a Back Office-ban, mely lehetővé teszi a Front Office felület megnyitását a partnerek részér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 felület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egnyitása, használ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megnyi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ájékoztató e-mail a partnerek részé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-mail tartalma: FO kézikönyv, internet link, User name, password, biztonsági kul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használat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lérése kizárólag egyéni User name és password használatával, projektrészenként külön-kül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Segédletek és segítség nyúj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észletes FO kézikönyv a Partnerek részre (e-mail, reporting package és 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vati.hu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elefonon/e-mailen elérhetőek vagyunk munkaidő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3400" y="18432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185760" y="1263600"/>
            <a:ext cx="4897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921240" indent="-49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66cc"/>
                </a:solidFill>
                <a:latin typeface="Calibri"/>
              </a:rPr>
              <a:t>Egyszerű menüstruktú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reate new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mindig a TSZ szerinti megfelelő period-ot kell kiválasztani jelentések összevonásánál,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illetve</a:t>
            </a:r>
            <a:r>
              <a:rPr b="0" lang="hu-H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mindig egy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új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jelentés-készítési folyamat indul e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ontinue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orábban már elkezdett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folytat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Amend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partneri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hiánypótl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View Partner Reports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minden partneri jelentés megtekin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hange Password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jelszó módosítására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Exi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ilépés a FO felületrő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010120" y="1623960"/>
            <a:ext cx="6093000" cy="477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02480" y="2055960"/>
            <a:ext cx="3149640" cy="234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281640" y="4721400"/>
            <a:ext cx="5034240" cy="14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9760" y="1623960"/>
            <a:ext cx="6264360" cy="5267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Nyitóold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02840" y="1913040"/>
            <a:ext cx="241200" cy="920520"/>
          </a:xfrm>
          <a:custGeom>
            <a:avLst/>
            <a:gdLst>
              <a:gd name="textAreaLeft" fmla="*/ 0 w 241200"/>
              <a:gd name="textAreaRight" fmla="*/ 87120 w 241200"/>
              <a:gd name="textAreaTop" fmla="*/ 23760 h 920520"/>
              <a:gd name="textAreaBottom" fmla="*/ 896760 h 92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90120" y="2200320"/>
            <a:ext cx="1442880" cy="36684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ejlé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8680" y="4851360"/>
            <a:ext cx="2449440" cy="10936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Attachments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Doku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nedz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8680" y="3495600"/>
            <a:ext cx="2430360" cy="93672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Sheets to fill in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datbev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680" y="2200320"/>
            <a:ext cx="2449440" cy="90000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Overview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port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átteki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8120" y="2776680"/>
            <a:ext cx="711360" cy="13788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78120" y="3006720"/>
            <a:ext cx="1352520" cy="92232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78120" y="3006720"/>
            <a:ext cx="1913040" cy="243360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13040" y="1479600"/>
            <a:ext cx="6481800" cy="5451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2631960"/>
            <a:ext cx="2447640" cy="86364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gvalósított tevékeny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9040" y="260280"/>
            <a:ext cx="10009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datbeviteli f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713040"/>
            <a:ext cx="2516040" cy="100836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elszám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937040"/>
            <a:ext cx="2590560" cy="9352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nyo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köv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9760" y="3137040"/>
            <a:ext cx="2808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9760" y="3784680"/>
            <a:ext cx="2808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1400" y="4216320"/>
            <a:ext cx="273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25904" t="28461" r="72035" b="67918"/>
          <a:stretch/>
        </p:blipFill>
        <p:spPr>
          <a:xfrm>
            <a:off x="6089760" y="3639960"/>
            <a:ext cx="550800" cy="7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25904" t="34880" r="71527" b="59012"/>
          <a:stretch/>
        </p:blipFill>
        <p:spPr>
          <a:xfrm>
            <a:off x="7962840" y="7095960"/>
            <a:ext cx="538200" cy="72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745400" y="65930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53400" y="659304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25904" t="42336" r="70712" b="51371"/>
          <a:stretch/>
        </p:blipFill>
        <p:spPr>
          <a:xfrm>
            <a:off x="8826480" y="7095960"/>
            <a:ext cx="62532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usk_logo_hu"/>
          <p:cNvPicPr/>
          <p:nvPr/>
        </p:nvPicPr>
        <p:blipFill>
          <a:blip r:embed="rId6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242120" y="4863960"/>
            <a:ext cx="25527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bagiszonja</cp:lastModifiedBy>
  <dcterms:modified xsi:type="dcterms:W3CDTF">2012-10-17T12:22:52Z</dcterms:modified>
  <cp:revision>225</cp:revision>
  <dc:subject/>
  <dc:title>1. dia</dc:title>
</cp:coreProperties>
</file>